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A25-7E56-4DD8-8661-6F47C0C9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E25-8406-4D7C-9961-D761053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79D00-3092-4068-AA32-E2B9B0A1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788C0-19A6-4677-965F-8737F00B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B61FA-2E4D-426C-8045-B7127952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035D7-F52F-478A-BF1A-48DEE55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FB8C3-3921-4B6D-B668-83D8658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69AC3-1432-4F4F-9459-FD968398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04315-5528-4D3C-9BB1-4E68253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C4DDE-A9A5-4FC3-83AA-4358FB55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D18DB-8652-4B52-86D0-37EC9269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94CA7-1AD6-4A5A-8C81-591C13D7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D1E-DB3E-4AF7-ACE4-A62DA386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65560-91E9-47E8-9607-4BE5F7C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2C661-D21B-474B-A424-BC49A24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8D805-ED36-41C2-8AF2-975186AD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F8D93-66B7-4262-9FBD-4A8DE6F3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1B64-986C-4EA3-8598-9D0CB7F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6177-096D-4297-B190-953880B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36BAF-E9E0-4E8E-8B67-4E8A308D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BCED6-BD88-464F-AC68-B369CC04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C813E-1AA4-48D2-A9AD-9080CCF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C5FD6-9A90-4CF2-904D-144CDD42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E30-5897-4FAA-A437-4E95C1B6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C9774-99CA-48B0-8181-12F73643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52DFB-FD1B-4F58-AFF6-B70B4AF2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FA27B-DAC6-426B-BB92-B4015041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EEF49-4F6E-4791-B245-8BB7B2FE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F1554-5B3E-44BC-87E0-1EF3BBB8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95967-65C0-4EC3-A9CF-9905D104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BA853-4D2A-47C7-AE32-DE3511D2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7D741-8261-41FE-9D34-8127FC7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98C28-0C7C-4743-B847-F85FE9D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16A11-C012-48F2-BA7C-A028A0E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0122-0806-429D-A335-BA061896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120C7-8483-47CE-AAF3-D5FD44D3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90797-472D-4E92-B238-25B5495C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7D2BE-C5A4-4F17-88E5-C2E8CEA5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478CE-1D31-413B-9598-411DBF22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3B9B1-3F34-4541-8461-0EF4EB15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D74F3-A545-4A53-99D9-72209F85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3FE22-C4C8-4A73-BE25-9007D12E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60EA9-B5D7-497B-BBDA-7026DF44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7F77B-90D1-4324-9639-9BD5879B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AEBD5-7FC2-4227-8FD2-67BAFB2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15FE-2A9A-4EAE-A07E-FF5BA1CF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521F1-E47F-4899-92EA-3958480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68C16-F070-485C-BA28-A7B6D4F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456CC-6BF0-4755-A887-545EB8D5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8DA2-CAD7-4ABB-8EE0-2AF3AB72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0C526-6BC1-41BE-988D-37796A5B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AEBD-C491-480A-B2F7-ED7EDF80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856C-0EF3-4DD6-824C-67B5DB38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1D5B-492C-418A-887B-5FF33C6C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3636-176F-406D-BF1E-4F764F1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33CF-7652-4308-934D-F7047190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2CC-1262-48F2-8512-B8E5ACB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9927-35C9-4EF5-A697-7808C67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DB99-7E56-48DF-9CAC-8982FC0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0890-5328-43FC-AA1C-1E7765C3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4BF0-9D60-4598-9CD7-6059D8C9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6A76-FFD2-4B65-82C1-E75674E2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75A3-9E07-412A-BD49-7AB40F15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B6CD-F405-4B8E-BD5B-41D01518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C99C-6BFE-4A9D-921D-8252362F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3749-AD88-4F2E-9DF7-B28649C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D9D8-583E-4E99-A8DE-444AE638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28F-48AE-41A6-8C89-7336CF0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58E6-FDD2-4ED6-B657-D62AC5F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BFF3-ADDE-4220-904B-48C5B3DD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79AA-4BBF-4D73-B836-96F407D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899F-2D65-42F8-B83A-5B92998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7FF3-4879-4B3E-907E-1DE1F184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6365-6EDE-4A21-8D25-15128B9A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6D9E-B880-4A5D-84F6-F6E4A73A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AE1B-EAD0-4735-A894-FEA87360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14C3-7B49-4AAE-942B-31125CCD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A23F-576B-4980-99F5-9D490CD3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D83-A62C-4FAA-ACE0-6C299FD5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46B7-5201-4BBF-987C-3776A886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1FC1-1E42-4AB3-BE61-8AB9F3C4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12E9-9BD7-48A0-8F08-36E50813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A488-E0F7-4A2E-9197-8922D81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F2E5-736C-4165-84EA-88C7566B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6364-D37E-4239-8B71-E9B491C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0CEC-999C-4476-8CB4-50BC6F7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5D8D-67BD-4652-8D05-4A057252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A028-BBC2-49A1-9D24-D9347EEF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62F7-FA5A-409A-85F0-3FEF29E7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1FD-5E49-48D9-95FD-B5C2A71F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929D-286D-4CA3-8B49-7568725E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B57F-B4A1-4878-A1F1-A6F6537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3D03-FE16-4FC5-8A29-2D426610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9F59-40A7-4635-AB16-A42FC05B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62604-0CCC-4800-829E-7925262F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62D7-D53E-4BD3-9063-56F9E45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95AD-7E1E-448D-95BB-452B918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A28F-1B97-4A53-9424-0528446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B89E-A2DD-4D38-9D1E-E8E5C052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4B1C-2607-4F50-9FDC-98A449C2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658-B7FA-4254-B2D8-FEEE59B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196E-05A4-449E-B61D-B5AF523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FCCD-383A-45EA-BF02-29AA247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BF0B-FDDE-4C5F-B54D-B27BE79D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EF44-3FD4-4C85-BB47-ED7DE27C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A7CB8-3E1A-47F6-B2A4-5F19DDA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0CDD-192D-43A0-ABBB-6FC1871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73B9-FC47-4570-83F9-DD16051A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48C43-1105-4B63-AD84-96C5649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18C9-6BBC-4AA9-A773-5BAEFCA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82529-D3B9-4680-9383-C0A5A14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281-E447-49CA-990F-FA84945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6D99B-12AB-4F47-944B-C9E2AD5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DD48-9A25-4E43-8201-C18C536D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0E486-742C-48BC-8C89-ED7E49A5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8580D-9476-46F6-ABE2-F2E3FDF8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7475-5AE9-43C7-82B2-9165C7A9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A1810-9CD1-4322-B988-8764288C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7ED2-2A60-449C-B1F7-995DD623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2E3D6-684A-42D6-80A7-F91CAAA5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27EB-E4D5-47FA-9876-967E7B69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19B1D-F9EE-4C8F-A67E-AF8834A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F84-803D-4387-8F36-0B4E875B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3739-3649-4DEE-B85D-A02A3DC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94B3-8868-4E29-ABAC-2BCFCD18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F376-AEF1-48F1-A3B3-6F7B2474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CBA4E-F020-41CC-91FE-48AF60BC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3BB44-5C68-47C8-9998-0746DD01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FC88-1940-4DF9-97A0-BFD25CBD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F8CB-D364-47CA-9D4E-9E8E94CE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ED2FF-DDA5-4B28-940B-12514AED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C410-FC29-4368-9400-02BBCD8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C4B82-D692-4F72-A83D-51060515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958-2A52-4C71-882B-424B8AF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AC0F-D062-4194-B3D5-C00E1973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D4059-C0E5-4A61-AC73-17651FE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F61A-8FDF-4392-BEF6-0AC71DF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028E9-A4F1-43E9-9BA2-63E7F7B6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1FE42-35C9-45DB-AA41-078A66D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4F35-4B97-47A4-A333-90E20500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826AC-5882-4570-9DCC-64A010B0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6B9C9-7B27-4CC5-A3FB-03B7B4AA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5FB5B-A472-41F5-9455-420C7F3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2EBA3-9184-4CC1-B3B3-FDF3BEA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189C-19B1-43A9-90B2-1AB53335E3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DC66-0F8D-47FE-85A8-5728AD5F8E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F01-EA58-4C0F-9C5C-6EEC16AD42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6FF7-A072-4B00-A322-AC849579A2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0E50-48ED-4131-B5C9-020D418DB1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4AD-59D1-4AEF-814E-D88BBD0BD0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767A-8618-41B7-A5BB-EC48FF8599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B430-D403-44C9-86DB-E580F85E22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8CAA-7664-464D-AE49-E2E085C977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C2EC-4BE9-4F7E-8B67-79D4E3FE0F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98F-E635-4A48-B558-653B0AF9B5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E1C4-D3FB-4AA8-9E4A-A4C40FA5AF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e36406"/>
                </a:solidFill>
                <a:uFillTx/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314880" y="3786120"/>
            <a:ext cx="58291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204"/>
                </a:solidFill>
                <a:latin typeface="Calibri"/>
              </a:rPr>
              <a:t>Авторы: Иванова Ирина, Попова Мария, Павлов Константин. 9 «в» класс, г. Сыктывкар.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меры СПП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еревня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где скучал Евгений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была прелестный уголок. СПП с придаточным определ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ядюшка пел так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ак поет простой народ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обстоятельственным (образа действ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знал,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 что основа всего – нравственность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 с придаточным изъясн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Его не было дома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почему я и оставил записку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при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Если солнце не потушат,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будут зайчики всегда. СПП с придаточным обстоятельственным (уступ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Информацион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http://www.lingvotech.com/klasss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151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204"/>
                </a:solidFill>
                <a:latin typeface="Calibri"/>
              </a:rPr>
              <a:t>Культура речи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грамотность и ее выразительность – одна из важных сторон общения людей друг с друг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429320" cy="1000080"/>
          </a:xfrm>
          <a:prstGeom prst="rect">
            <a:avLst/>
          </a:prstGeom>
          <a:solidFill>
            <a:srgbClr val="f9b639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204"/>
                </a:solidFill>
                <a:latin typeface="Calibri"/>
              </a:rPr>
              <a:t>Сложные 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Подзаголовок 2"/>
          <p:cNvGrpSpPr/>
          <p:nvPr/>
        </p:nvGrpSpPr>
        <p:grpSpPr>
          <a:xfrm>
            <a:off x="165240" y="1547640"/>
            <a:ext cx="2597040" cy="1702080"/>
            <a:chOff x="165240" y="1547640"/>
            <a:chExt cx="2597040" cy="1702080"/>
          </a:xfrm>
        </p:grpSpPr>
        <p:pic>
          <p:nvPicPr>
            <p:cNvPr id="49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165240" y="1547640"/>
              <a:ext cx="25970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85840" y="1643040"/>
              <a:ext cx="23572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сочиненные предол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9" name="Прямая со стрелкой 4"/>
          <p:cNvCxnSpPr/>
          <p:nvPr/>
        </p:nvCxnSpPr>
        <p:spPr>
          <a:xfrm flipH="1">
            <a:off x="1213560" y="1141920"/>
            <a:ext cx="114372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 flipH="1">
            <a:off x="4355280" y="1143000"/>
            <a:ext cx="2520" cy="5724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Прямая со стрелкой 8"/>
          <p:cNvCxnSpPr/>
          <p:nvPr/>
        </p:nvCxnSpPr>
        <p:spPr>
          <a:xfrm>
            <a:off x="5857560" y="1142640"/>
            <a:ext cx="142956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02" name="TextBox 11"/>
          <p:cNvGrpSpPr/>
          <p:nvPr/>
        </p:nvGrpSpPr>
        <p:grpSpPr>
          <a:xfrm>
            <a:off x="2835360" y="1695600"/>
            <a:ext cx="3363840" cy="1023840"/>
            <a:chOff x="2835360" y="1695600"/>
            <a:chExt cx="3363840" cy="1023840"/>
          </a:xfrm>
        </p:grpSpPr>
        <p:pic>
          <p:nvPicPr>
            <p:cNvPr id="503" name="TextBox 11" descr=""/>
            <p:cNvPicPr/>
            <p:nvPr/>
          </p:nvPicPr>
          <p:blipFill>
            <a:blip r:embed="rId2"/>
            <a:stretch/>
          </p:blipFill>
          <p:spPr>
            <a:xfrm>
              <a:off x="2835360" y="1695600"/>
              <a:ext cx="336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00240" y="1785960"/>
              <a:ext cx="307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подчиненны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TextBox 13"/>
          <p:cNvGrpSpPr/>
          <p:nvPr/>
        </p:nvGrpSpPr>
        <p:grpSpPr>
          <a:xfrm>
            <a:off x="6267600" y="1620720"/>
            <a:ext cx="2955600" cy="1397160"/>
            <a:chOff x="6267600" y="1620720"/>
            <a:chExt cx="2955600" cy="1397160"/>
          </a:xfrm>
        </p:grpSpPr>
        <p:pic>
          <p:nvPicPr>
            <p:cNvPr id="506" name="TextBox 13" descr=""/>
            <p:cNvPicPr/>
            <p:nvPr/>
          </p:nvPicPr>
          <p:blipFill>
            <a:blip r:embed="rId3"/>
            <a:stretch/>
          </p:blipFill>
          <p:spPr>
            <a:xfrm>
              <a:off x="6267600" y="1620720"/>
              <a:ext cx="29556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429240" y="1714680"/>
              <a:ext cx="271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Бессоюзные сложные 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Рисунок 9" descr="images.jpeg"/>
          <p:cNvPicPr/>
          <p:nvPr/>
        </p:nvPicPr>
        <p:blipFill>
          <a:blip r:embed="rId4"/>
          <a:stretch/>
        </p:blipFill>
        <p:spPr>
          <a:xfrm>
            <a:off x="1643040" y="328608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984204"/>
                </a:solidFill>
                <a:uFillTx/>
                <a:latin typeface="Calibri"/>
              </a:rPr>
              <a:t>Сложносочиненное предложение </a:t>
            </a:r>
            <a:r>
              <a:rPr b="0" lang="ru-RU" sz="29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, части которого равноправны и связаны сочинительной связью с помощью интонации и сочинительных союз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4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Сложноподчиненное предложение </a:t>
            </a: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 , части которого соединены подчинительной связью, т. е. одна является главной (независимой), а другая – придаточной (зависимой , подчиненной главной по смыслу и грамматически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987480" y="237960"/>
            <a:ext cx="7504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2" name="Подзаголовок 2"/>
          <p:cNvGrpSpPr/>
          <p:nvPr/>
        </p:nvGrpSpPr>
        <p:grpSpPr>
          <a:xfrm>
            <a:off x="60480" y="1335240"/>
            <a:ext cx="1804680" cy="2481120"/>
            <a:chOff x="60480" y="1335240"/>
            <a:chExt cx="1804680" cy="2481120"/>
          </a:xfrm>
        </p:grpSpPr>
        <p:pic>
          <p:nvPicPr>
            <p:cNvPr id="51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60480" y="1335240"/>
              <a:ext cx="180468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14200" y="1428840"/>
              <a:ext cx="15004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98989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898989"/>
                  </a:solidFill>
                  <a:latin typeface="Calibri"/>
                </a:rPr>
                <a:t>определ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5" name="Прямая со стрелкой 4"/>
          <p:cNvCxnSpPr/>
          <p:nvPr/>
        </p:nvCxnSpPr>
        <p:spPr>
          <a:xfrm flipH="1">
            <a:off x="999720" y="928800"/>
            <a:ext cx="328680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16" name="Прямая со стрелкой 7"/>
          <p:cNvCxnSpPr/>
          <p:nvPr/>
        </p:nvCxnSpPr>
        <p:spPr>
          <a:xfrm flipH="1">
            <a:off x="2785320" y="928800"/>
            <a:ext cx="1500840" cy="7149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17" name="TextBox 9"/>
          <p:cNvGrpSpPr/>
          <p:nvPr/>
        </p:nvGrpSpPr>
        <p:grpSpPr>
          <a:xfrm>
            <a:off x="1908000" y="1474920"/>
            <a:ext cx="2170440" cy="2139840"/>
            <a:chOff x="1908000" y="1474920"/>
            <a:chExt cx="2170440" cy="2139840"/>
          </a:xfrm>
        </p:grpSpPr>
        <p:pic>
          <p:nvPicPr>
            <p:cNvPr id="518" name="TextBox 9" descr=""/>
            <p:cNvPicPr/>
            <p:nvPr/>
          </p:nvPicPr>
          <p:blipFill>
            <a:blip r:embed="rId3"/>
            <a:stretch/>
          </p:blipFill>
          <p:spPr>
            <a:xfrm>
              <a:off x="1908000" y="1474920"/>
              <a:ext cx="2170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071800" y="1571760"/>
              <a:ext cx="1857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изъяс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0" name="Прямая со стрелкой 11"/>
          <p:cNvCxnSpPr/>
          <p:nvPr/>
        </p:nvCxnSpPr>
        <p:spPr>
          <a:xfrm flipH="1">
            <a:off x="4857480" y="999720"/>
            <a:ext cx="216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1" name="TextBox 12"/>
          <p:cNvGrpSpPr/>
          <p:nvPr/>
        </p:nvGrpSpPr>
        <p:grpSpPr>
          <a:xfrm>
            <a:off x="3833640" y="1547640"/>
            <a:ext cx="2530800" cy="1768680"/>
            <a:chOff x="3833640" y="1547640"/>
            <a:chExt cx="2530800" cy="1768680"/>
          </a:xfrm>
        </p:grpSpPr>
        <p:pic>
          <p:nvPicPr>
            <p:cNvPr id="522" name="TextBox 12" descr=""/>
            <p:cNvPicPr/>
            <p:nvPr/>
          </p:nvPicPr>
          <p:blipFill>
            <a:blip r:embed="rId4"/>
            <a:stretch/>
          </p:blipFill>
          <p:spPr>
            <a:xfrm>
              <a:off x="3833640" y="1547640"/>
              <a:ext cx="25308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000680" y="1643040"/>
              <a:ext cx="221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стоятельствен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4" name="Прямая со стрелкой 14"/>
          <p:cNvCxnSpPr/>
          <p:nvPr/>
        </p:nvCxnSpPr>
        <p:spPr>
          <a:xfrm>
            <a:off x="5000400" y="1000080"/>
            <a:ext cx="25009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5" name="TextBox 15"/>
          <p:cNvGrpSpPr/>
          <p:nvPr/>
        </p:nvGrpSpPr>
        <p:grpSpPr>
          <a:xfrm>
            <a:off x="6620040" y="1474920"/>
            <a:ext cx="2530440" cy="1768320"/>
            <a:chOff x="6620040" y="1474920"/>
            <a:chExt cx="2530440" cy="1768320"/>
          </a:xfrm>
        </p:grpSpPr>
        <p:pic>
          <p:nvPicPr>
            <p:cNvPr id="526" name="TextBox 15" descr=""/>
            <p:cNvPicPr/>
            <p:nvPr/>
          </p:nvPicPr>
          <p:blipFill>
            <a:blip r:embed="rId5"/>
            <a:stretch/>
          </p:blipFill>
          <p:spPr>
            <a:xfrm>
              <a:off x="6620040" y="1474920"/>
              <a:ext cx="25304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86720" y="1571760"/>
              <a:ext cx="214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соеди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8" name="Прямая со стрелкой 17"/>
          <p:cNvCxnSpPr/>
          <p:nvPr/>
        </p:nvCxnSpPr>
        <p:spPr>
          <a:xfrm flipH="1">
            <a:off x="4928400" y="3071880"/>
            <a:ext cx="25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TextBox 18"/>
          <p:cNvSpPr/>
          <p:nvPr/>
        </p:nvSpPr>
        <p:spPr>
          <a:xfrm>
            <a:off x="4143240" y="3714840"/>
            <a:ext cx="21434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b6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а действия  и степ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4865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204"/>
                </a:solidFill>
                <a:latin typeface="Calibri"/>
              </a:rPr>
              <a:t>Придаточные определ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835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уществительному или другому слову, употребленному в значении существительного, в главной части, давая ему характеристику или раскрывая призн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К придаточным определительным от главного предложения ставятся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акой? какая? как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кто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что, какой, чей, когда, где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акой, тот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етя подошел к тому месту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куда слышались выстр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изъяс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ловам со значением речи, мысли и чувства(глаголу, наречию, отглагольному существительному, краткой форме прилагательного и др.) в главной части, уточняя или поясняя смысл этих слов. Придаточные изъяснительные отвечают на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освенных паде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ы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ак, будто, как будто, что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то, когда, где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Частиц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ое слово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говорил о лете и то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что быть поэтом женщине – нелеп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обстоятельствен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вечают на вопросы обстоятельств. Эти вопросы задаются от всего главного предложения или от состава сказуемого. По соотношению с членами предложения выделяются обстоятельственные придаточные места, времени, причины, следствия, образа действия и степени, сравнения, цели, условия, уступ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вернулся домой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огда его перестали уже жд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выражают дополнительные сообщения относительно содержания главной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 относятся ко всей главной части, к ним нельзя поставить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оюзные слова: что, почему, отчего, зачем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даточная часть, как правило, стоит после глав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ример: Вставая поутру, француз пил целебный бальза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чего он и весел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6:42:51Z</dcterms:created>
  <dc:creator>Samsung</dc:creator>
  <dc:description/>
  <dc:language>en-US</dc:language>
  <cp:lastModifiedBy>info</cp:lastModifiedBy>
  <dcterms:modified xsi:type="dcterms:W3CDTF">2010-05-24T10:13:44Z</dcterms:modified>
  <cp:revision>26</cp:revision>
  <dc:subject/>
  <dc:title>Какие виды сложных предложений вам известны?</dc:title>
</cp:coreProperties>
</file>